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2196-89D9-4650-B078-C38F4713A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mber is here to protect business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the city council, county commission, or state legislature meets, there are more regulations and expensive laws (even with good intentions) that businesses must follow.  There are also local issues and challenges that can only be addressed through local or statewide legislation.  Your Business Advocacy Committee meets monthly to discuss legislation and local issues, talks to our legislators, testifies at hearings and meets with community and state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mbers are positioned best to be the GRASS ROOTS business community organizer! Broad based memberships (from 1 person companies to our large employer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Picture – common ground efforts that impact everyone’s bottom line and representation for the smaller busi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business is the least represented group (due to time/resources) and yet we make up 92% of the jobs in Ore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companies EXPECT Chambers to be in politics today (even though they have their own lobbyists), and small business cannot afford not to have us engag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nnually reviews our broad policy guidelines which the BAC uses to take positions 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olicies are developed, we share them with each of our legislators in one-on-one meeting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0D127-8C83-4D63-98C4-82E9F56BE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C4C8-4375-48F1-8208-07740F960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916E4-2294-4D4F-9B0A-F0D94BA7C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4FF71-7DC6-4EF0-AF96-09E6D0F5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C3DB8-C9F2-49BC-95AE-99349D963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D5400-B316-43F3-B6A3-BE884D1AB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E68F5-BFB6-4D00-9A5F-DEB65621C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639A4-E902-44F3-BDA0-4D6E93BF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FDE4C-3F18-4E91-B77D-446EDDFC8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125BF-2767-4AEC-991C-C174436AB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973A6-7B96-48F9-91A3-12EDC3C41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289FC-B7DC-493A-95BD-438732F9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7E26A-73B9-4CA2-84D7-7AFC0678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E395F-733C-44C6-8A55-AF1C53FEB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AEBC5-6661-4EB0-AA1B-39364E3D6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BD12A-AE74-40FF-8A23-4F9F60E68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FADD9-852E-459D-96AA-6B186BE78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1402-CAA8-401A-9C99-67160D567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8C0E-66AF-4E92-8BBE-0324688B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76730-6305-44A0-A8F6-8892E4036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9DE3-6530-496A-8D16-11B472FD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60BE-4B3A-4496-8ECE-26B39E9A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725F-46E0-4B1D-85B3-D0B94C97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A593-465E-4E31-917C-7C7588DBC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A45C-CF26-448F-80A3-6E85721C05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5887-349D-49FA-B208-86B7510BA6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10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The Voice of Business</a:t>
            </a:r>
            <a:br>
              <a:rPr sz="4400"/>
            </a:br>
            <a:r>
              <a:rPr b="0" lang="en-US" sz="4000" spc="-1" strike="noStrike">
                <a:solidFill>
                  <a:srgbClr val="e5ffff"/>
                </a:solidFill>
                <a:latin typeface="Tahoma"/>
              </a:rPr>
              <a:t> Advocacy &amp; Candidate Endorsements</a:t>
            </a:r>
            <a:endParaRPr b="0" lang="en-US" sz="4000" spc="-1" strike="noStrike">
              <a:solidFill>
                <a:srgbClr val="e5ffff"/>
              </a:solidFill>
              <a:latin typeface="Tahoma"/>
            </a:endParaRPr>
          </a:p>
        </p:txBody>
      </p:sp>
      <p:sp>
        <p:nvSpPr>
          <p:cNvPr id="91" name="PlaceHolder 2"/>
          <p:cNvSpPr>
            <a:spLocks noGrp="1"/>
          </p:cNvSpPr>
          <p:nvPr>
            <p:ph type="subTitle"/>
          </p:nvPr>
        </p:nvSpPr>
        <p:spPr>
          <a:xfrm>
            <a:off x="1371600" y="41148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not now, wh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not the Chamber, wh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p:cNvPicPr/>
          <p:nvPr/>
        </p:nvPicPr>
        <p:blipFill>
          <a:blip r:embed="rId2"/>
          <a:stretch/>
        </p:blipFill>
        <p:spPr>
          <a:xfrm>
            <a:off x="152280" y="533520"/>
            <a:ext cx="1231920" cy="1981080"/>
          </a:xfrm>
          <a:prstGeom prst="rect">
            <a:avLst/>
          </a:prstGeom>
          <a:ln w="0">
            <a:noFill/>
          </a:ln>
        </p:spPr>
      </p:pic>
      <p:sp>
        <p:nvSpPr>
          <p:cNvPr id="93" name=""/>
          <p:cNvSpPr/>
          <p:nvPr/>
        </p:nvSpPr>
        <p:spPr>
          <a:xfrm>
            <a:off x="1482480" y="5410080"/>
            <a:ext cx="616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evin Hohnbaum, BAC Chair &amp; Community Newspape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rraine Clarno, BACC President/CE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pril 6,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011 Legislative Agenda</a:t>
            </a: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session (until now – been bienni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mber Day at the Capito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islative call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ekly OSCC monitoring and repor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ndidate Endorsement Council</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ere getting good at posi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is in the seat is really what cou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8 first venture – local, 100% wi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10 first venture into State, 60% win</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ssaging convey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inesses &amp; employers must come together, raising one voice as an advocate for public policy that enhances a healthy environment that promotes sound business growth. It is our responsibility to ensure that pro-business candidates are elected to states and local office so that our advocacy work can succe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AQ’s</a:t>
            </a: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 any of my membership dues go to the PA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ONE of your membership dues are used to the fund our PAC. The PAC is funded by voluntary contributions from members. Our PAC is a separate legal entity with separate financials and bank accou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uld the Chamber lose its not-for-profit statu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The PAC is a separate organization (with its own board, bylaws, and bank accounts). The Chamber can be involved in advocacy – with or without a PAC – because we are a 501(c)(6) non-profit organization, not a charitable non-profit (501(c)(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ll the Chamber lose government funding by forming a PA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We do not receive government funding. The Chamber may occasionally provide business services to governments for a fee, but those funds would be specifically designated for the services. Funding will not be jeopardized by the formation of a PA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ow do I contribute to the BACCPA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your convenience, we take contributions throughout the year. To make it even simpler, there is a voluntary contribution line on the enclosed membership renewal. You only have to cut one check or make one credit card payment annuall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mount is greatly appreciat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ocess</a:t>
            </a:r>
            <a:endParaRPr b="0" lang="en-US" sz="44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ces Identified – Primary &amp; General</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ool Board, Parks Board, Fire District Board, are an option</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ten Questionnair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s and Personal Interview Questions Developed</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orsements mad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up</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to Media and Membershi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VOICE of business for Beavert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ll we always agree?  NO</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t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gular Issue based membership? NO!</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llaborate and partner where ever possible for that louder voice.</a:t>
            </a:r>
            <a:endParaRPr b="0" lang="en-US" sz="28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CCCP, OSSC, Oregon Committe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CPAC</a:t>
            </a: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Money does not buy votes……….it buys access!</a:t>
            </a: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age………</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If you aren’t at the table………You are probably on the menu!</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 &amp; A</a:t>
            </a: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 Away! We have heavy armor </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vocacy</a:t>
            </a:r>
            <a:endParaRPr b="0" lang="en-US" sz="4400" spc="-1" strike="noStrike">
              <a:solidFill>
                <a:srgbClr val="e5ffff"/>
              </a:solidFill>
              <a:latin typeface="Tahoma"/>
            </a:endParaRPr>
          </a:p>
        </p:txBody>
      </p:sp>
      <p:sp>
        <p:nvSpPr>
          <p:cNvPr id="97" name="PlaceHolder 2"/>
          <p:cNvSpPr>
            <a:spLocks noGrp="1"/>
          </p:cNvSpPr>
          <p:nvPr>
            <p:ph/>
          </p:nvPr>
        </p:nvSpPr>
        <p:spPr>
          <a:xfrm>
            <a:off x="685440" y="1523520"/>
            <a:ext cx="7924680" cy="4419720"/>
          </a:xfrm>
          <a:prstGeom prst="rect">
            <a:avLst/>
          </a:prstGeom>
          <a:noFill/>
          <a:ln w="0">
            <a:noFill/>
          </a:ln>
        </p:spPr>
        <p:txBody>
          <a:bodyPr lIns="90000" rIns="90000" tIns="46800" bIns="46800" anchor="t">
            <a:normAutofit fontScale="82000"/>
          </a:bodyPr>
          <a:p>
            <a:pPr marL="2811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e take care of politics so you can take care of your business.</a:t>
            </a:r>
            <a:endParaRPr b="0" lang="en-US" sz="3000" spc="-1" strike="noStrike">
              <a:solidFill>
                <a:srgbClr val="ffffff"/>
              </a:solidFill>
              <a:latin typeface="Tahoma"/>
            </a:endParaRPr>
          </a:p>
          <a:p>
            <a:pPr marL="281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t>
            </a:r>
            <a:r>
              <a:rPr b="0" i="1" lang="en-US" sz="2400" spc="-1" strike="noStrike">
                <a:solidFill>
                  <a:srgbClr val="ffffff"/>
                </a:solidFill>
                <a:latin typeface="Tahoma"/>
              </a:rPr>
              <a:t>No man’s life, liberty or property are safe while the legislature is in session”</a:t>
            </a:r>
            <a:r>
              <a:rPr b="0" lang="en-US" sz="2400" spc="-1" strike="noStrike">
                <a:solidFill>
                  <a:srgbClr val="ffffff"/>
                </a:solidFill>
                <a:latin typeface="Tahoma"/>
              </a:rPr>
              <a:t>      Gideon Tucker</a:t>
            </a:r>
            <a:endParaRPr b="0" lang="en-US" sz="2400" spc="-1" strike="noStrike">
              <a:solidFill>
                <a:srgbClr val="ffffff"/>
              </a:solidFill>
              <a:latin typeface="Tahoma"/>
            </a:endParaRPr>
          </a:p>
        </p:txBody>
      </p:sp>
      <p:pic>
        <p:nvPicPr>
          <p:cNvPr id="98" name="" descr=""/>
          <p:cNvPicPr/>
          <p:nvPr/>
        </p:nvPicPr>
        <p:blipFill>
          <a:blip r:embed="rId2"/>
          <a:stretch/>
        </p:blipFill>
        <p:spPr>
          <a:xfrm>
            <a:off x="1981080" y="2494080"/>
            <a:ext cx="4775400" cy="34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t>
            </a:r>
            <a:endParaRPr b="0" lang="en-US" sz="4400" spc="-1" strike="noStrike">
              <a:solidFill>
                <a:srgbClr val="e5ffff"/>
              </a:solidFill>
              <a:latin typeface="Tahoma"/>
            </a:endParaRPr>
          </a:p>
        </p:txBody>
      </p:sp>
      <p:sp>
        <p:nvSpPr>
          <p:cNvPr id="100" name="PlaceHolder 2"/>
          <p:cNvSpPr>
            <a:spLocks noGrp="1"/>
          </p:cNvSpPr>
          <p:nvPr>
            <p:ph/>
          </p:nvPr>
        </p:nvSpPr>
        <p:spPr>
          <a:xfrm>
            <a:off x="457200" y="1828440"/>
            <a:ext cx="82296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business’s lobbying organization!</a:t>
            </a:r>
            <a:endParaRPr b="0" lang="en-US" sz="2800" spc="-1" strike="noStrike">
              <a:solidFill>
                <a:srgbClr val="ffffff"/>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ons – police, parks, fire, teacher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al interest groups – environmental, activist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stry groups - home builders, manufacturers, retail, banking</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rge businesse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r Structure</a:t>
            </a:r>
            <a:endParaRPr b="0" lang="en-US" sz="4400" spc="-1" strike="noStrike">
              <a:solidFill>
                <a:srgbClr val="e5ffff"/>
              </a:solidFill>
              <a:latin typeface="Tahoma"/>
            </a:endParaRPr>
          </a:p>
        </p:txBody>
      </p:sp>
      <p:sp>
        <p:nvSpPr>
          <p:cNvPr id="102"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 voting members appointed annually</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board members/50% general membership</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C empowered to take positions for the Board</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s monthly , first Thursday at 7:30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meetings open to the full membership</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Partisa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licy Guidelines</a:t>
            </a:r>
            <a:endParaRPr b="0" lang="en-US" sz="4400" spc="-1" strike="noStrike">
              <a:solidFill>
                <a:srgbClr val="e5ffff"/>
              </a:solidFill>
              <a:latin typeface="Tahoma"/>
            </a:endParaRPr>
          </a:p>
        </p:txBody>
      </p:sp>
      <p:sp>
        <p:nvSpPr>
          <p:cNvPr id="104" name="PlaceHolder 2"/>
          <p:cNvSpPr>
            <a:spLocks noGrp="1"/>
          </p:cNvSpPr>
          <p:nvPr>
            <p:ph/>
          </p:nvPr>
        </p:nvSpPr>
        <p:spPr>
          <a:xfrm>
            <a:off x="152280" y="1981080"/>
            <a:ext cx="655344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Regul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scal Responsibility &amp; Stabilit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Governmen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vironmental/Energ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Reform</a:t>
            </a:r>
            <a:endParaRPr b="0" lang="en-US" sz="2800" spc="-1" strike="noStrike">
              <a:solidFill>
                <a:srgbClr val="ffffff"/>
              </a:solidFill>
              <a:latin typeface="Tahoma"/>
            </a:endParaRPr>
          </a:p>
        </p:txBody>
      </p:sp>
      <p:pic>
        <p:nvPicPr>
          <p:cNvPr id="105" name="" descr=""/>
          <p:cNvPicPr/>
          <p:nvPr/>
        </p:nvPicPr>
        <p:blipFill>
          <a:blip r:embed="rId2"/>
          <a:stretch/>
        </p:blipFill>
        <p:spPr>
          <a:xfrm>
            <a:off x="5859360" y="2438280"/>
            <a:ext cx="3284640" cy="344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ity, County</a:t>
            </a:r>
            <a:endParaRPr b="0" lang="en-US" sz="4400" spc="-1" strike="noStrike">
              <a:solidFill>
                <a:srgbClr val="e5ffff"/>
              </a:solidFill>
              <a:latin typeface="Tahoma"/>
            </a:endParaRPr>
          </a:p>
        </p:txBody>
      </p:sp>
      <p:sp>
        <p:nvSpPr>
          <p:cNvPr id="107" name="PlaceHolder 2"/>
          <p:cNvSpPr>
            <a:spLocks noGrp="1"/>
          </p:cNvSpPr>
          <p:nvPr>
            <p:ph/>
          </p:nvPr>
        </p:nvSpPr>
        <p:spPr>
          <a:xfrm>
            <a:off x="151920" y="1523520"/>
            <a:ext cx="899172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y: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ed the Multi-Use facility explorati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 transportation projects for federal/state funding</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ioning</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vic Planning</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ban renew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y: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ght the Transportation Impact Fe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rgrounds redevelopment</a:t>
            </a: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08" name="" descr=""/>
          <p:cNvPicPr/>
          <p:nvPr/>
        </p:nvPicPr>
        <p:blipFill>
          <a:blip r:embed="rId2"/>
          <a:stretch/>
        </p:blipFill>
        <p:spPr>
          <a:xfrm>
            <a:off x="6064200" y="2666880"/>
            <a:ext cx="3079800" cy="35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tro, Stat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10" name="PlaceHolder 2"/>
          <p:cNvSpPr>
            <a:spLocks noGrp="1"/>
          </p:cNvSpPr>
          <p:nvPr>
            <p:ph/>
          </p:nvPr>
        </p:nvSpPr>
        <p:spPr>
          <a:xfrm>
            <a:off x="837720" y="1828800"/>
            <a:ext cx="80010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ro: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ban/Rural Reserv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d Use issu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umbia River Crossing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WY 217 &amp; 26 expansion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66 &amp; 67 (lost!)</a:t>
            </a:r>
            <a:endParaRPr b="0" lang="en-US" sz="2800" spc="-1" strike="noStrike">
              <a:solidFill>
                <a:srgbClr val="ffffff"/>
              </a:solidFill>
              <a:latin typeface="Tahoma"/>
            </a:endParaRPr>
          </a:p>
        </p:txBody>
      </p:sp>
      <p:pic>
        <p:nvPicPr>
          <p:cNvPr id="111" name="" descr=""/>
          <p:cNvPicPr/>
          <p:nvPr/>
        </p:nvPicPr>
        <p:blipFill>
          <a:blip r:embed="rId2"/>
          <a:stretch/>
        </p:blipFill>
        <p:spPr>
          <a:xfrm>
            <a:off x="5334120" y="1447920"/>
            <a:ext cx="3809880" cy="325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usiness Specific</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r Joes – Recycling: Saved them over $50,000 per ye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 West Fibers – Assisted with hastening permitting on new facilit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s – Maneuvering through the permit maz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9:25:32Z</dcterms:created>
  <dc:creator>lorraine</dc:creator>
  <dc:description/>
  <dc:language>en-US</dc:language>
  <cp:lastModifiedBy>lorraine</cp:lastModifiedBy>
  <dcterms:modified xsi:type="dcterms:W3CDTF">2011-04-04T22:33:37Z</dcterms:modified>
  <cp:revision>8</cp:revision>
  <dc:subject/>
  <dc:title>The Voice of Business  Advocacy &amp; Candidate Endorse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